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4.jpeg" ContentType="image/jpeg"/>
  <Override PartName="/ppt/media/image2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.jpeg" ContentType="image/jpeg"/>
  <Override PartName="/ppt/media/image15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12963525" cy="8640763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8790-C501-4D11-9EC1-6718A8668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A298E-F904-424D-BF20-51A557BD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F27E-11E2-4B8E-B894-C56ACF7B9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918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537400" y="201600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462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5918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537400" y="4993920"/>
            <a:ext cx="375732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5396-82B4-4717-A846-8D7108FDA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74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D0D0-377E-4596-9D04-51E930D6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6F7-CA85-4F3A-BFDB-034DA47D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84D5-93DF-42C1-AA79-5AF86D45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D53-FB5A-41B1-B33D-14A87810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46200" y="347400"/>
            <a:ext cx="11669760" cy="66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7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C56A-6D2B-4DAD-B658-DD04E289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5D6D-74A2-4C50-A577-A46C80810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625800" y="499392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FB10-0C7F-4486-98DC-5AA383FF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62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625800" y="2016000"/>
            <a:ext cx="569448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6200" y="4993920"/>
            <a:ext cx="11669760" cy="27190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indent="0">
              <a:spcBef>
                <a:spcPts val="1074"/>
              </a:spcBef>
              <a:buNone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84B7-4D8E-4B9E-B2C1-207CE895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6200" y="347400"/>
            <a:ext cx="116697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6200" y="2016000"/>
            <a:ext cx="11669760" cy="570096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rmAutofit/>
          </a:bodyPr>
          <a:p>
            <a:pPr marL="461880" indent="-46188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1" marL="1003320" indent="-38592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2" marL="1542960" indent="-306360">
              <a:spcBef>
                <a:spcPts val="1074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3" marL="2160720" indent="-309600">
              <a:spcBef>
                <a:spcPts val="1074"/>
              </a:spcBef>
              <a:buClr>
                <a:srgbClr val="000000"/>
              </a:buClr>
              <a:buFont typeface="Arial"/>
              <a:buChar char="–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4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5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lvl="6" marL="2778120" indent="-309600">
              <a:spcBef>
                <a:spcPts val="1074"/>
              </a:spcBef>
              <a:buClr>
                <a:srgbClr val="000000"/>
              </a:buClr>
              <a:buFont typeface="Arial"/>
              <a:buChar char="»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584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27640" y="0"/>
            <a:ext cx="4106880" cy="5983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1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289800" y="7870320"/>
            <a:ext cx="3025800" cy="598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lstStyle>
            <a:lvl1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  <a:defRPr b="0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fld id="{F7A05EBD-FA20-463D-8CBE-BDCDB6555AE0}" type="slidenum">
              <a:rPr b="0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7928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ae2e4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838080"/>
            <a:ext cx="11034720" cy="2438640"/>
          </a:xfrm>
          <a:prstGeom prst="rect">
            <a:avLst/>
          </a:prstGeom>
          <a:solidFill>
            <a:srgbClr val="6d1543"/>
          </a:solidFill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7200" spc="-1" strike="noStrike">
                <a:solidFill>
                  <a:srgbClr val="fbfadd"/>
                </a:solidFill>
                <a:latin typeface="Arial"/>
              </a:rPr>
              <a:t>Kulturní zájmy a potřeby</a:t>
            </a:r>
            <a:br>
              <a:rPr sz="7200"/>
            </a:br>
            <a:r>
              <a:rPr b="1" lang="en-US" sz="4000" spc="-1" strike="noStrike">
                <a:solidFill>
                  <a:srgbClr val="fbfadd"/>
                </a:solidFill>
                <a:latin typeface="Arial"/>
              </a:rPr>
              <a:t>obyvatel hlavního města Prah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599840" y="7162560"/>
            <a:ext cx="9753480" cy="106668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t">
            <a:noAutofit/>
          </a:bodyPr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3501"/>
              </a:spcAft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Prezentace pro setkání představitelů pražské kulturní obce dne 14. 1.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STEM" descr=""/>
          <p:cNvPicPr/>
          <p:nvPr/>
        </p:nvPicPr>
        <p:blipFill>
          <a:blip r:embed="rId1"/>
          <a:stretch/>
        </p:blipFill>
        <p:spPr>
          <a:xfrm>
            <a:off x="4800600" y="3657600"/>
            <a:ext cx="3124080" cy="328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F3AD-2E4B-402F-AAB3-F35686697942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111492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ference od známých jsou základ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Internetu patří nejenom budoucnost, ale i současn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1600200"/>
            <a:ext cx="11201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odkud čerpáte informace o možnostech kulturního vyžití v Praz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5440" y="2328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285920" y="2016000"/>
          <a:ext cx="9937800" cy="6429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5920" y="2016000"/>
                    <a:ext cx="9937800" cy="642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D37-4326-41F9-B43D-16D229F81B9B}" type="slidenum">
              <a:t>10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11201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ěkteré z pražských kulturních projektů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se staly pojmy, které zná větš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600200"/>
            <a:ext cx="118872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Vám budu postupně číst různé konkrétní akce či 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 prosím řekněte, zda je znáte?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2120" y="2797200"/>
          <a:ext cx="6407280" cy="5616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120" y="2797200"/>
                    <a:ext cx="64072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3603600" y="2295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518160" y="2684520"/>
          <a:ext cx="6283440" cy="5452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18160" y="2684520"/>
                    <a:ext cx="628344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42CA-1AF7-4FFE-BF6D-56ABA600D5DF}" type="slidenum">
              <a:t>11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Vnímání nabídky v oblasti kultu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72FF-353F-45C6-86C2-85209472021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95280" y="457200"/>
            <a:ext cx="1151424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Nabídka kultury v Praze je pestrá. </a:t>
            </a:r>
            <a:br>
              <a:rPr sz="3600"/>
            </a:b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Významný nedostatek z hlediska rozmanitosti neexistuj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23302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je nabídka kulturních pořadů a akcí v  Praze dostatečně rozmanitá?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6705720" y="1905120"/>
            <a:ext cx="586728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yní mi laskavě řekněte, zda je ještě něco jiného, co Vy osobně v nabídce kulturních akcí, pořadů či v oblasti kultury a umění v Praze postrád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AE68-7CAB-48E3-B720-18F9C030C708}" type="slidenum">
              <a:t>13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hodnotí Pražané rozsah nabídky v kultuř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019920"/>
            <a:ext cx="6477120" cy="213336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klubových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bídka odborných kniho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838080"/>
            <a:ext cx="57150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99ff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6699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Hodnotí 60 - 70 % obyva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2057400"/>
            <a:ext cx="6477120" cy="3657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optávka spíše vyšší než nabíd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představení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iné kulturně vzdělávací pořady pro dě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alternativních divadelních scén  a klub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pořady, autorská čtení, pás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315200" y="2666880"/>
            <a:ext cx="5257800" cy="2819520"/>
          </a:xfrm>
          <a:prstGeom prst="rect">
            <a:avLst/>
          </a:prstGeom>
          <a:solidFill>
            <a:srgbClr val="33cc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a poptávka v rovnová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 algn="ctr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ředstavení klasických diva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eální expoz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jní či jiné výstavy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315200" y="5791320"/>
            <a:ext cx="5257800" cy="2133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 algn="ctr">
              <a:lnSpc>
                <a:spcPct val="100000"/>
              </a:lnSpc>
              <a:spcBef>
                <a:spcPts val="1225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abídka spíše vyšší než poptáv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mová představení v multikinech, kin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74960" y="1295280"/>
            <a:ext cx="540936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Hodnotí 85 - 95 % obyvatel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9999"/>
                </a:solidFill>
                <a:latin typeface="Symbol"/>
                <a:ea typeface="Symbol"/>
              </a:rPr>
              <a:t>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18E2-ADE5-46DE-90AA-314B48423AEF}" type="slidenum">
              <a:t>14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125046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posuzování rozsahu nabídky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kulturních pořadů v hlavním městě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1905120"/>
            <a:ext cx="114300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u Vám nyní číst nabídku jednotlivých druhů kulturních pořadů, akcí a zaříze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Vy mi, prosím, řekněte, zda máte poc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že některých je málo,  je jich přiměřeně a nebo je jich až moc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09640" y="3111480"/>
          <a:ext cx="11255400" cy="4794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79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7E5B-509C-40B4-A1F4-990D94A6D831}" type="slidenum">
              <a:t>15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Kulturní zájmy a návštěv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E0FF-98B1-443F-86CA-E81BEBDFC40A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1189512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Hierarchie zájmu o kulturní oblasti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676520" y="2590920"/>
          <a:ext cx="10210680" cy="565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590920"/>
                    <a:ext cx="10210680" cy="56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Řekněte mi, prosím, jaký je Váš vztah k jednotlivým oblastem v kultuř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moc se o jednotlivé kulturní akce v těchto oblastech zajímát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746B-0206-42C5-B0F2-EA950A707672}" type="slidenum">
              <a:t>17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Zájem generací o jednotlivé druhy umění je různ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70120" y="24382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2286000" y="2438280"/>
          <a:ext cx="8991720" cy="581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0" y="2438280"/>
                    <a:ext cx="8991720" cy="58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jem o jednotlivé kulturní oblasti podle vě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čet odpovědí „Velmi se zajímám“ + „Poměrně se zajímám“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9471-D121-42C6-B99F-AD760EFAC681}" type="slidenum">
              <a:t>18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92040" y="380880"/>
            <a:ext cx="1166940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Jak často vyrazí Pražané za kulturou?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603600" y="2652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603600" y="2581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598920" y="3096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03600" y="28335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3623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28195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98920" y="85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3200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03600" y="334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598920" y="204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03600" y="88092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3200400"/>
            <a:ext cx="11049120" cy="205740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zikálová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populár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ubová kina, filmové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rní alternativní divadelní scény, klu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klasické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410080"/>
            <a:ext cx="11049120" cy="28195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dborné knihov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oncerty moderní alternativní hud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amatérských umělc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kce prezentující lidovou kult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terární kluby, pásma, več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vadelní a jiné kulturně vzdělávací programy pro dě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mediální projekty, taneční a balet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64280" y="3276720"/>
            <a:ext cx="7416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1371600"/>
            <a:ext cx="11049120" cy="167652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ultikina, k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876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řejné knihovny, muz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lasická divadelní představe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lerie či výstavy výtvarného umě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850520" y="170172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64280" y="5940360"/>
            <a:ext cx="91080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10280" y="1447920"/>
            <a:ext cx="1067040" cy="12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230680" y="6257880"/>
            <a:ext cx="342828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íce než polovin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ůbec nik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850520" y="3683160"/>
            <a:ext cx="4493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3480" rIns="123480" tIns="61560" bIns="615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5 – 45 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álně  jednou za r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678F-71DF-4E99-8B4B-DE0BF46B1191}" type="slidenum">
              <a:t>19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br>
              <a:rPr sz="4800"/>
            </a:b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Základní informace o výzkumu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DE27-9441-4900-B1AC-CF3D55D559E2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457200"/>
            <a:ext cx="1174248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Příklady návštěvnosti kulturních pořadů a zařízení 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mezi obyvateli Prah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204156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myslete se, prosím, nad letošním rokem a řekněte mi, jak často obvyk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dnotlivé kulturní akce či zařízení navštěvujete.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809640" y="3111480"/>
          <a:ext cx="11255400" cy="4572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9640" y="3111480"/>
                    <a:ext cx="112554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0E03-8ADC-4145-956F-188ADA242E1D}" type="slidenum">
              <a:t>20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Bariéry účasti na kulturním život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A2E7-C83E-4B9C-B93B-A7CDC265C845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 každý může za kulturou, jak by chtěl.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idé tvrdí, že „chybí“ volný čas nebo peníze.</a:t>
            </a: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6492960" y="3098880"/>
          <a:ext cx="6143400" cy="444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92960" y="3098880"/>
                    <a:ext cx="6143400" cy="44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324480" y="1981080"/>
            <a:ext cx="655344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u Vás převládá pocit, že nemůžete navštěvovat různé kulturní akce a zařízení tak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byste chtěl(a), co je podle Vá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obvykle hlavním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ůvodem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380880" y="3014640"/>
            <a:ext cx="5639040" cy="46785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228600" y="2057400"/>
            <a:ext cx="609588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to vezmeme všechno dohromady, můžete se návštěvám různých kulturních akcí a zařízení věnovat tak, jak byste chtěl(a):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CF73-731F-457C-99B5-E2755C161046}" type="slidenum">
              <a:t>22</a:t>
            </a:fld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ahá připadají lidem kina, divadla, koncerty.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ro většinu lidí není problém místo konání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1682640" y="3048120"/>
          <a:ext cx="10302840" cy="517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82640" y="3048120"/>
                    <a:ext cx="10302840" cy="51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533520" y="1905120"/>
            <a:ext cx="1219176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dosažitelnost z místa, kde bydlí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A9F4-2AC1-4AB2-9C55-B97E4C646FD2}" type="slidenum">
              <a:t>23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23880" y="347400"/>
            <a:ext cx="1114920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Nejstarší generace má problémy: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ostupné jsou pro většinu z nich jen knihovn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598920" y="257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903320" y="12715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903320" y="17622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36880" y="1828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284640" y="23814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371600" y="1828800"/>
            <a:ext cx="1120140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 hodnotíte dosažitelnost a cenovou přijatelnost následujících kulturních zařízení v Praze? Pokud jde o jejich cenovou přijatelnost.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oučet odpovědí „Zcela přijatelné + „Spíše přijatelné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456000" y="2262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1984320" y="2971800"/>
          <a:ext cx="9445680" cy="541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4320" y="2971800"/>
                    <a:ext cx="9445680" cy="541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E7FF-708B-49A9-9B91-58CF057E197A}" type="slidenum">
              <a:t>24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973080" y="320040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ctr">
            <a:noAutofit/>
          </a:bodyPr>
          <a:p>
            <a:pPr algn="ctr"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Shrnutí a závě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433C-F9EB-4D85-A12B-2DDF3051B408}" type="slidenum">
              <a:t>25</a:t>
            </a:fld>
          </a:p>
        </p:txBody>
      </p:sp>
    </p:spTree>
  </p:cSld>
  <p:transition>
    <p:wipe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66680" y="34290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ražané řadí Prahu mezi nejvýznamnější evropská kulturní centra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66680" y="5943600"/>
            <a:ext cx="11277720" cy="175248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Obyvatelé města oceňují možnosti v oblasti kultury jako jednu z největší předností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F9D1-DF0D-461D-B38D-1083715F84B6}" type="slidenum">
              <a:t>26</a:t>
            </a:fld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ha jako kulturní centru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66680" y="34290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Informace o kulturní nabídce v Praze nescházejí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066680" y="5943600"/>
            <a:ext cx="11277720" cy="1676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137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Kulturní život v hlavním městě nemá zásadní omezení na straně nabídky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FDC1-E9FB-43F1-8E8C-3CD799275C58}" type="slidenum">
              <a:t>27</a:t>
            </a:fld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066680" y="33526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z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y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nedojde v horizontu 15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let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v oblasti kulturních zájmů a potřeb k významným změnám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066680" y="5867280"/>
            <a:ext cx="11277720" cy="18288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738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ojde k p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k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ení vlivu demografického stárnutí a zlepšující se úrov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 celkové vzd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lanosti Pra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an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ů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6DF-02A2-4751-BABC-93B099699E53}" type="slidenum">
              <a:t>28</a:t>
            </a:fld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ojekce kulturní „spotřeby“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43000" y="32767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224"/>
              </a:spcBef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962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Mírné ne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dostatk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y ve struktuře nabídky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se sice výrazn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  <a:ea typeface="Times New Roman"/>
              </a:rPr>
              <a:t> neprohloubí, avšak ani neustoupí.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3000" y="5791320"/>
            <a:ext cx="11125080" cy="190476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noAutofit/>
          </a:bodyPr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Rozvírání nůžek mezi lidmi s větším a menším zájmem o kulturu může způsobit nepříznivý ekonomický vývoj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15000"/>
              </a:lnSpc>
              <a:spcBef>
                <a:spcPts val="1851"/>
              </a:spcBef>
              <a:buClr>
                <a:srgbClr val="000000"/>
              </a:buClr>
              <a:buFont typeface="Arial"/>
              <a:buChar char="•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E7C4-5098-4BA4-A561-900FE4A65CCE}" type="slidenum">
              <a:t>29</a:t>
            </a:fld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6800"/>
            <a:ext cx="11950560" cy="710712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marL="1143000" indent="0">
              <a:spcAft>
                <a:spcPts val="1400"/>
              </a:spcAft>
              <a:buNone/>
              <a:tabLst>
                <a:tab algn="l" pos="0"/>
                <a:tab algn="l" pos="1339920"/>
                <a:tab algn="l" pos="2679840"/>
                <a:tab algn="l" pos="4019400"/>
                <a:tab algn="l" pos="5359320"/>
                <a:tab algn="l" pos="6699240"/>
                <a:tab algn="l" pos="8039160"/>
                <a:tab algn="l" pos="9379080"/>
                <a:tab algn="l" pos="107186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yp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antitativní  reprezentativních še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í</a:t>
            </a: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ílová skupina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byvatelé Prahy starší 15 let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etoda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vótní výb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 podle kritérií pohlaví,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u, vzd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ání a m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ě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ských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ástí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ka dotazování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ované osobní rozhovory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vedené školenými tazateli STEM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ín výzkumu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2.11. – 2.12. 2004</a:t>
            </a:r>
            <a:br>
              <a:rPr sz="2800"/>
            </a:br>
            <a:r>
              <a:rPr b="1" lang="cs-CZ" sz="2800" spc="-1" strike="noStrike">
                <a:solidFill>
                  <a:srgbClr val="ff6600"/>
                </a:solidFill>
                <a:latin typeface="Arial"/>
                <a:ea typeface="Times New Roman"/>
              </a:rPr>
              <a:t> </a:t>
            </a:r>
            <a:br>
              <a:rPr sz="2800"/>
            </a:b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ýsledný soubor: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50 responden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11E8-308B-4934-899D-B9D667E955DB}" type="slidenum">
              <a:t>3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33"/>
            </a:gs>
            <a:gs pos="50000">
              <a:srgbClr val="8c043b"/>
            </a:gs>
            <a:gs pos="100000">
              <a:srgbClr val="6600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47560" y="5638680"/>
            <a:ext cx="10591560" cy="2438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Přejeme mnoho úspěchů </a:t>
            </a:r>
            <a:br>
              <a:rPr sz="4800"/>
            </a:br>
            <a:r>
              <a:rPr b="1" lang="en-US" sz="4800" spc="-1" strike="noStrike">
                <a:solidFill>
                  <a:srgbClr val="f8f0cc"/>
                </a:solidFill>
                <a:latin typeface="Arial"/>
              </a:rPr>
              <a:t>a děkujeme za pozorno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STEM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597120" cy="3962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BC6-55B9-456D-90F4-195340ACFC52}" type="slidenum">
              <a:t>30</a:t>
            </a:fld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10515600" cy="1439640"/>
          </a:xfrm>
          <a:prstGeom prst="rect">
            <a:avLst/>
          </a:prstGeom>
          <a:solidFill>
            <a:srgbClr val="99ccff">
              <a:alpha val="50000"/>
            </a:srgbClr>
          </a:solidFill>
          <a:ln w="38160">
            <a:solidFill>
              <a:srgbClr val="9f1b3a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0" lang="en-US" sz="4800" spc="-1" strike="noStrike">
                <a:solidFill>
                  <a:srgbClr val="6d1543"/>
                </a:solidFill>
                <a:latin typeface="Arial"/>
              </a:rPr>
              <a:t>Pražané a kultur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638360" y="2666880"/>
            <a:ext cx="10553760" cy="510552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000080"/>
            </a:solidFill>
            <a:miter/>
          </a:ln>
        </p:spPr>
        <p:txBody>
          <a:bodyPr lIns="123480" rIns="123480" tIns="61560" bIns="61560" anchor="t">
            <a:normAutofit/>
          </a:bodyPr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aké je místo kultury v životě Pražanů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sou Pražané v oblasti kultury informovan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 nabídka kultury dostatečně rozmanit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 Pražany v kultuře zajímá a kam chodí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mění se v nejbližších letech potřeby veřejnosti   v oblasti kultu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7235-1236-46D2-AC4D-2019683CE617}" type="slidenum">
              <a:t>4</a:t>
            </a:fld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Místo kultury v životě Pražanů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B840-5003-4E8F-B006-48210C2367D2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11441160" cy="143964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Kultura není v životním stylu Pražanů prioritou.</a:t>
            </a: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316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752480"/>
            <a:ext cx="114300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hlédněte si, prosím, seznam životních stylů a vyberte postupně tř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jsou Vám nejbližší. Stanovte pořadí.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79840" y="23144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362320" y="2438280"/>
          <a:ext cx="8610480" cy="595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2438280"/>
                    <a:ext cx="8610480" cy="595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96F2-6951-433F-B68B-517300FF4260}" type="slidenum">
              <a:t>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660680" y="25830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880"/>
            <a:ext cx="115297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Těsnější vazbu ke kultuře </a:t>
            </a:r>
            <a:br>
              <a:rPr sz="3600"/>
            </a:b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má jen poměrně malý podíl Pražanů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603600" y="2571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3880" y="19382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3880" y="2128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7696080"/>
            <a:ext cx="1104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905120"/>
            <a:ext cx="6019920" cy="12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dyž se srovnáte s jinými lidmi Vašeho věku, jak často ve srovnání s nimi navštěvujete různé kulturní akce a zařízení?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22600" y="278136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79840" y="261936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3200400"/>
          <a:ext cx="5029200" cy="432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00400"/>
                    <a:ext cx="5029200" cy="43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2209680"/>
            <a:ext cx="54104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podílel(a) jste se v posledním roce na nějaké kulturní akci, projektu:“</a:t>
            </a:r>
            <a:r>
              <a:rPr b="1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400800" y="312408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400800" y="312408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7D93-670F-414B-A6B3-178A7CEA0E3C}" type="slidenum">
              <a:t>7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73080" y="3200040"/>
            <a:ext cx="11017440" cy="1854360"/>
          </a:xfrm>
          <a:prstGeom prst="rect">
            <a:avLst/>
          </a:prstGeom>
          <a:solidFill>
            <a:srgbClr val="fbfadd"/>
          </a:solidFill>
          <a:ln w="76320">
            <a:solidFill>
              <a:srgbClr val="990033"/>
            </a:solidFill>
            <a:miter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en-US" sz="4800" spc="-1" strike="noStrike">
                <a:solidFill>
                  <a:srgbClr val="990033"/>
                </a:solidFill>
                <a:latin typeface="Arial"/>
              </a:rPr>
              <a:t>Informovanost o kultuř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38E3-2596-41A5-ACA4-59ACACF905FD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457200"/>
            <a:ext cx="11049120" cy="1440000"/>
          </a:xfrm>
          <a:prstGeom prst="rect">
            <a:avLst/>
          </a:prstGeom>
          <a:noFill/>
          <a:ln w="0">
            <a:noFill/>
          </a:ln>
        </p:spPr>
        <p:txBody>
          <a:bodyPr lIns="123480" rIns="123480" tIns="61560" bIns="61560" anchor="ctr">
            <a:noAutofit/>
          </a:bodyPr>
          <a:p>
            <a:pPr indent="0" algn="ctr">
              <a:buNone/>
              <a:tabLst>
                <a:tab algn="l" pos="0"/>
                <a:tab algn="l" pos="1236600"/>
                <a:tab algn="l" pos="2473200"/>
                <a:tab algn="l" pos="3710160"/>
                <a:tab algn="l" pos="4946760"/>
                <a:tab algn="l" pos="6183360"/>
                <a:tab algn="l" pos="7419960"/>
                <a:tab algn="l" pos="8656560"/>
                <a:tab algn="l" pos="9893160"/>
              </a:tabLst>
            </a:pP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Informací o kulturní nabídce je dost.</a:t>
            </a:r>
            <a:br>
              <a:rPr sz="3600"/>
            </a:br>
            <a:r>
              <a:rPr b="1" lang="cs-CZ" sz="3600" spc="-1" strike="noStrike">
                <a:solidFill>
                  <a:srgbClr val="990033"/>
                </a:solidFill>
                <a:latin typeface="Arial"/>
              </a:rPr>
              <a:t>V</a:t>
            </a:r>
            <a:r>
              <a:rPr b="1" lang="cs-CZ" sz="3200" spc="-1" strike="noStrike">
                <a:solidFill>
                  <a:srgbClr val="990033"/>
                </a:solidFill>
                <a:latin typeface="Arial"/>
              </a:rPr>
              <a:t>ětšina Pražanů si myslí, že má dostatečný přehl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98920" y="24192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05320" y="297180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56080" y="29480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1280" y="297180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451320" y="232884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51320" y="2614680"/>
            <a:ext cx="12961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13000" y="26146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13000" y="272412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13000" y="24908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224080"/>
            <a:ext cx="640080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e podle Vás snadné získat dostatek informací o kulturní nabídce v hlavním městě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5920" y="281448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05720" y="2254320"/>
            <a:ext cx="58672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480" rIns="123480" tIns="61560" bIns="615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yslíte si, že máte dostatečný přehl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nabídce kultury v Praze?“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4520" y="2019240"/>
            <a:ext cx="12962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3120" rIns="123120" tIns="-61200" bIns="-612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762120" y="3276720"/>
          <a:ext cx="5873760" cy="487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327672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"/>
          <p:cNvGraphicFramePr/>
          <p:nvPr/>
        </p:nvGraphicFramePr>
        <p:xfrm>
          <a:off x="6629400" y="3200400"/>
          <a:ext cx="5873760" cy="4873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29400" y="3200400"/>
                    <a:ext cx="5873760" cy="48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404-D612-4C7A-81AB-7D0E34ABFFD0}" type="slidenum">
              <a:t>9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4T08:22:19Z</dcterms:created>
  <dc:creator>Sýkorová</dc:creator>
  <dc:description/>
  <dc:language>en-US</dc:language>
  <cp:lastModifiedBy>sykorova</cp:lastModifiedBy>
  <dcterms:modified xsi:type="dcterms:W3CDTF">2005-01-12T16:55:05Z</dcterms:modified>
  <cp:revision>360</cp:revision>
  <dc:subject/>
  <dc:title>Hlavní město Praha - portrét roku 2004</dc:title>
</cp:coreProperties>
</file>