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240" y="3812760"/>
            <a:ext cx="7543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24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23692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21840" y="106632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72800" y="106632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240" y="381276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21840" y="381276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72800" y="381276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1240" y="304560"/>
            <a:ext cx="75438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24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23692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240" y="3812760"/>
            <a:ext cx="7543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hyperlink" Target="http://www.olympic.org/uk/index_uk.asp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479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228240" y="64767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Příprava podkladů pro potencionální kandidaturu Prahy na pořadatelství LOH 2016, resp. 20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2414520" y="3184560"/>
            <a:ext cx="4314960" cy="490680"/>
            <a:chOff x="2414520" y="3184560"/>
            <a:chExt cx="4314960" cy="490680"/>
          </a:xfrm>
        </p:grpSpPr>
        <p:sp>
          <p:nvSpPr>
            <p:cNvPr id="4" name=""/>
            <p:cNvSpPr/>
            <p:nvPr/>
          </p:nvSpPr>
          <p:spPr>
            <a:xfrm>
              <a:off x="2414520" y="3184560"/>
              <a:ext cx="4314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414520" y="3184560"/>
              <a:ext cx="431496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2840" tIns="0" bIns="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800" spc="-1" strike="noStrike" u="sng">
                  <a:solidFill>
                    <a:srgbClr val="ccccff"/>
                  </a:solidFill>
                  <a:uFillTx/>
                  <a:latin typeface="Verdana"/>
                  <a:hlinkClick r:id="rId3"/>
                </a:rPr>
                <a:t>  </a:t>
              </a:r>
              <a:r>
                <a:rPr b="0" lang="cs-CZ" sz="30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cs-CZ" sz="800" spc="-1" strike="noStrike">
                  <a:solidFill>
                    <a:srgbClr val="000000"/>
                  </a:solidFill>
                  <a:latin typeface="Verdana"/>
                </a:rPr>
                <a:t>                     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228600" y="304920"/>
            <a:ext cx="914400" cy="9144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"/>
          <p:cNvSpPr/>
          <p:nvPr/>
        </p:nvSpPr>
        <p:spPr>
          <a:xfrm>
            <a:off x="6934320" y="647712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ÚRM únor 2007   str.: </a:t>
            </a:r>
            <a:fld id="{36853E77-A269-478B-AB82-07F5B2D57742}" type="slidenum">
              <a:rPr b="1" i="1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219320" y="870120"/>
            <a:ext cx="2374920" cy="152280"/>
          </a:xfrm>
          <a:custGeom>
            <a:avLst/>
            <a:gdLst/>
            <a:ahLst/>
            <a:rect l="l" t="t" r="r" b="b"/>
            <a:pathLst>
              <a:path w="1142" h="227">
                <a:moveTo>
                  <a:pt x="0" y="227"/>
                </a:moveTo>
                <a:cubicBezTo>
                  <a:pt x="128" y="30"/>
                  <a:pt x="459" y="37"/>
                  <a:pt x="663" y="27"/>
                </a:cubicBezTo>
                <a:cubicBezTo>
                  <a:pt x="824" y="0"/>
                  <a:pt x="978" y="0"/>
                  <a:pt x="1142" y="0"/>
                </a:cubicBezTo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 u="sng">
                <a:solidFill>
                  <a:srgbClr val="000000"/>
                </a:solidFill>
                <a:uFillTx/>
                <a:latin typeface="Tahoma"/>
              </a:rPr>
              <a:t>Příloha č. 3 usnesení ZHMP č. … ze dne…</a:t>
            </a:r>
            <a:br>
              <a:rPr sz="1400"/>
            </a:br>
            <a:br>
              <a:rPr sz="1400"/>
            </a:b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Informace o Ekonomické a marketingové analýze pořádání letních olympijských her v roce 2016, resp. 2020 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 hl.m. Praze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Tahoma"/>
              </a:rPr>
              <a:t>zpracované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Tahoma"/>
              </a:rPr>
              <a:t>PricewaterhouseCoopers,ČR,2004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ci zpracova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Útvar rozvoje hl. m. Prah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2/200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304920"/>
            <a:ext cx="7543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(pokračování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7543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31760" y="1295280"/>
          <a:ext cx="8869320" cy="5069160"/>
        </p:xfrm>
        <a:graphic>
          <a:graphicData uri="http://schemas.openxmlformats.org/drawingml/2006/table">
            <a:tbl>
              <a:tblPr/>
              <a:tblGrid>
                <a:gridCol w="2843280"/>
                <a:gridCol w="1825560"/>
                <a:gridCol w="1179360"/>
                <a:gridCol w="911520"/>
                <a:gridCol w="1149120"/>
                <a:gridCol w="960480"/>
              </a:tblGrid>
              <a:tr h="459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8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 nákladu </a:t>
                      </a:r>
                      <a:br>
                        <a:rPr sz="1500"/>
                      </a:b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milion Kč</a:t>
                      </a: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elkové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volané O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 př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d kandidaturo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</a:t>
                      </a:r>
                      <a:br>
                        <a:rPr sz="1200"/>
                      </a:b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 kandidatuř</a:t>
                      </a: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ovní areá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stadióny, ost. náklady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1 7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4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2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stadióny - mimo Prah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0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tréninkové plochy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9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7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výstaviště Letň</a:t>
                      </a: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ny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(</a:t>
                      </a: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haly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3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5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0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 7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imosportovní areá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olympijská vesni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 4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2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 1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mediální vesnice, MPC/IBC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8 9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4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 3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lší výda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příprava kandidátské nabídk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ostatní provozní výdaje O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6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6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výdaje na paralympiád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 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 0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bezpečnos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1 0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1 0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(pokračování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28600" y="1219320"/>
          <a:ext cx="8763120" cy="5180040"/>
        </p:xfrm>
        <a:graphic>
          <a:graphicData uri="http://schemas.openxmlformats.org/drawingml/2006/table">
            <a:tbl>
              <a:tblPr/>
              <a:tblGrid>
                <a:gridCol w="2743200"/>
                <a:gridCol w="1752480"/>
                <a:gridCol w="1067040"/>
                <a:gridCol w="990360"/>
                <a:gridCol w="1219320"/>
                <a:gridCol w="990720"/>
              </a:tblGrid>
              <a:tr h="45900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8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 nákladu </a:t>
                      </a:r>
                      <a:br>
                        <a:rPr sz="1500"/>
                      </a:b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milion Kč</a:t>
                      </a: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8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elkové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volané O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 př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d kandidaturo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</a:t>
                      </a:r>
                      <a:br>
                        <a:rPr sz="1200"/>
                      </a:b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 kandidatuř</a:t>
                      </a: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 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 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frastrukturní výda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technologie, ISIT, telko, interne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 9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 92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doprava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8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8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letiště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železnice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železnice - mimo Prah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silnice - mimo Prahu (včetně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PO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inženýrské sítě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hotel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opad DPH na výstavbu investic financovaných HM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4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4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5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5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EM  PRO OH V ROCE 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 5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4 0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8 7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9 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Urychlení výstavby D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2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29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240" y="990720"/>
            <a:ext cx="7543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Výnosy a zdroje financování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71240" y="13716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Základní přístup spočíval v definici maxima reálně očekávaných  prostředků ze soukromých zdrojů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Zdroje organizačního výboru O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Zdroje developerů v oblasti real est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Zdroje EU nejsou pro sportovní účely obecně dostupné, jejich vliv je tedy nepřímý – maximalizace jejich využití v jiných potřebných oblastech (dopravní infrastruktura může uvolnit veřejné zdroje pro potřeby O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Veřejné zdroje města, regionů, země, které bude nutné použít k profinancování deficitu mezi náklady a soukromými zdroj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Výnosy a zdroje financování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52280" y="1600200"/>
          <a:ext cx="4280040" cy="3744720"/>
        </p:xfrm>
        <a:graphic>
          <a:graphicData uri="http://schemas.openxmlformats.org/drawingml/2006/table">
            <a:tbl>
              <a:tblPr/>
              <a:tblGrid>
                <a:gridCol w="2146320"/>
                <a:gridCol w="1060560"/>
                <a:gridCol w="1073160"/>
              </a:tblGrid>
              <a:tr h="771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lož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náklady vyvolané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5 8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 5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ýnosy POCO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6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6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ýnosy z developmen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5 3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5 3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raha a stá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2 3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8 9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Kraje a sportovní svaz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 5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 5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zdro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5 8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 5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1640" y="1066680"/>
            <a:ext cx="434340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ffffff"/>
                </a:solidFill>
                <a:latin typeface="Tahoma"/>
              </a:rPr>
              <a:t>Téměř 50% zdrojů pochází </a:t>
            </a:r>
            <a:br>
              <a:rPr sz="1600"/>
            </a:br>
            <a:r>
              <a:rPr b="1" i="1" lang="cs-CZ" sz="1600" spc="-1" strike="noStrike">
                <a:solidFill>
                  <a:srgbClr val="ffffff"/>
                </a:solidFill>
                <a:latin typeface="Tahoma"/>
              </a:rPr>
              <a:t>ze soukromých zdrojů </a:t>
            </a:r>
            <a:br>
              <a:rPr sz="1600"/>
            </a:br>
            <a:r>
              <a:rPr b="1" i="1" lang="cs-CZ" sz="1600" spc="-1" strike="noStrike">
                <a:solidFill>
                  <a:srgbClr val="ffffff"/>
                </a:solidFill>
                <a:latin typeface="Tahoma"/>
              </a:rPr>
              <a:t>(POCOG a PPP/development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4645800" y="2438280"/>
            <a:ext cx="4269240" cy="2795400"/>
            <a:chOff x="4645800" y="2438280"/>
            <a:chExt cx="4269240" cy="2795400"/>
          </a:xfrm>
        </p:grpSpPr>
        <p:sp>
          <p:nvSpPr>
            <p:cNvPr id="168" name=""/>
            <p:cNvSpPr/>
            <p:nvPr/>
          </p:nvSpPr>
          <p:spPr>
            <a:xfrm>
              <a:off x="6978240" y="2741400"/>
              <a:ext cx="1177560" cy="1672560"/>
            </a:xfrm>
            <a:custGeom>
              <a:avLst/>
              <a:gdLst/>
              <a:ahLst/>
              <a:rect l="l" t="t" r="r" b="b"/>
              <a:pathLst>
                <a:path w="82" h="110">
                  <a:moveTo>
                    <a:pt x="77" y="110"/>
                  </a:moveTo>
                  <a:cubicBezTo>
                    <a:pt x="80" y="101"/>
                    <a:pt x="82" y="92"/>
                    <a:pt x="82" y="82"/>
                  </a:cubicBezTo>
                  <a:cubicBezTo>
                    <a:pt x="82" y="37"/>
                    <a:pt x="45" y="1"/>
                    <a:pt x="0" y="1"/>
                  </a:cubicBezTo>
                  <a:cubicBezTo>
                    <a:pt x="0" y="0"/>
                    <a:pt x="0" y="1"/>
                    <a:pt x="0" y="1"/>
                  </a:cubicBezTo>
                  <a:lnTo>
                    <a:pt x="0" y="82"/>
                  </a:lnTo>
                  <a:lnTo>
                    <a:pt x="77" y="110"/>
                  </a:lnTo>
                  <a:close/>
                </a:path>
              </a:pathLst>
            </a:custGeom>
            <a:solidFill>
              <a:srgbClr val="266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978240" y="3987360"/>
              <a:ext cx="1106280" cy="1215360"/>
            </a:xfrm>
            <a:custGeom>
              <a:avLst/>
              <a:gdLst/>
              <a:ahLst/>
              <a:rect l="l" t="t" r="r" b="b"/>
              <a:pathLst>
                <a:path w="77" h="80">
                  <a:moveTo>
                    <a:pt x="15" y="80"/>
                  </a:moveTo>
                  <a:cubicBezTo>
                    <a:pt x="43" y="75"/>
                    <a:pt x="67" y="55"/>
                    <a:pt x="77" y="28"/>
                  </a:cubicBezTo>
                  <a:lnTo>
                    <a:pt x="0" y="0"/>
                  </a:lnTo>
                  <a:lnTo>
                    <a:pt x="15" y="80"/>
                  </a:lnTo>
                  <a:close/>
                </a:path>
              </a:pathLst>
            </a:custGeom>
            <a:solidFill>
              <a:srgbClr val="cae8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15080" y="3987360"/>
              <a:ext cx="1378440" cy="1246320"/>
            </a:xfrm>
            <a:custGeom>
              <a:avLst/>
              <a:gdLst/>
              <a:ahLst/>
              <a:rect l="l" t="t" r="r" b="b"/>
              <a:pathLst>
                <a:path w="96" h="8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45"/>
                    <a:pt x="36" y="82"/>
                    <a:pt x="81" y="82"/>
                  </a:cubicBezTo>
                  <a:cubicBezTo>
                    <a:pt x="86" y="81"/>
                    <a:pt x="91" y="81"/>
                    <a:pt x="96" y="80"/>
                  </a:cubicBezTo>
                  <a:lnTo>
                    <a:pt x="8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bcb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815080" y="3790800"/>
              <a:ext cx="1163160" cy="196200"/>
            </a:xfrm>
            <a:custGeom>
              <a:avLst/>
              <a:gdLst/>
              <a:ahLst/>
              <a:rect l="l" t="t" r="r" b="b"/>
              <a:pathLst>
                <a:path w="81" h="13">
                  <a:moveTo>
                    <a:pt x="1" y="0"/>
                  </a:moveTo>
                  <a:cubicBezTo>
                    <a:pt x="0" y="4"/>
                    <a:pt x="0" y="8"/>
                    <a:pt x="0" y="13"/>
                  </a:cubicBezTo>
                  <a:lnTo>
                    <a:pt x="81" y="1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2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829480" y="3562920"/>
              <a:ext cx="1148400" cy="424080"/>
            </a:xfrm>
            <a:custGeom>
              <a:avLst/>
              <a:gdLst/>
              <a:ahLst/>
              <a:rect l="l" t="t" r="r" b="b"/>
              <a:pathLst>
                <a:path w="80" h="28">
                  <a:moveTo>
                    <a:pt x="4" y="0"/>
                  </a:moveTo>
                  <a:cubicBezTo>
                    <a:pt x="2" y="4"/>
                    <a:pt x="0" y="9"/>
                    <a:pt x="0" y="15"/>
                  </a:cubicBezTo>
                  <a:lnTo>
                    <a:pt x="80" y="28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a49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886360" y="2756520"/>
              <a:ext cx="1091880" cy="1230480"/>
            </a:xfrm>
            <a:custGeom>
              <a:avLst/>
              <a:gdLst/>
              <a:ahLst/>
              <a:rect l="l" t="t" r="r" b="b"/>
              <a:pathLst>
                <a:path w="76" h="81">
                  <a:moveTo>
                    <a:pt x="76" y="0"/>
                  </a:moveTo>
                  <a:cubicBezTo>
                    <a:pt x="42" y="0"/>
                    <a:pt x="11" y="21"/>
                    <a:pt x="0" y="53"/>
                  </a:cubicBezTo>
                  <a:lnTo>
                    <a:pt x="76" y="8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b1d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627160" y="3912120"/>
              <a:ext cx="187920" cy="216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5" y="0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671080" y="3426120"/>
              <a:ext cx="171360" cy="27180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0" y="0"/>
                  </a:moveTo>
                  <a:lnTo>
                    <a:pt x="5" y="0"/>
                  </a:lnTo>
                  <a:lnTo>
                    <a:pt x="12" y="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92040" y="3790800"/>
              <a:ext cx="621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Kraje 3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09440" y="5050440"/>
              <a:ext cx="62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át 28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810200" y="5019840"/>
              <a:ext cx="687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MP 16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997040" y="3045960"/>
              <a:ext cx="918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COG 3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645800" y="3182760"/>
              <a:ext cx="699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ortovn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í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660920" y="3426120"/>
              <a:ext cx="860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ederace 3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078520" y="2438280"/>
              <a:ext cx="1046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ukromé/PP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509800" y="268128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0" y="5715000"/>
            <a:ext cx="9132840" cy="709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Zdroje POCOG z MOV jsou konečné a představují přímý podíl organizačního výboru na příjmech MOV z TV práv a TOP sponzor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Ostatní náklady a zdroj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066680" y="1295280"/>
          <a:ext cx="7848720" cy="5005440"/>
        </p:xfrm>
        <a:graphic>
          <a:graphicData uri="http://schemas.openxmlformats.org/drawingml/2006/table">
            <a:tbl>
              <a:tblPr/>
              <a:tblGrid>
                <a:gridCol w="5639040"/>
                <a:gridCol w="2209680"/>
              </a:tblGrid>
              <a:tr h="749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lož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51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Ostatní 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ovišt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3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oprava – Praha (metro, radiály, MO, P+R, tmx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4 8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Letiště (nová vzletová dráh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8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eleznice – Praha (letiště-centrum, městská železnice, Nové spojení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4 4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eleznice (koridor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ilnice (PO, dálnice D3, D8, D1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23 4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ženýrské sítě (ČOV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 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Hotely (běžný rozvoj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87 6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Ostatní náklady a zdroj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533520" y="1676520"/>
          <a:ext cx="3886200" cy="4038120"/>
        </p:xfrm>
        <a:graphic>
          <a:graphicData uri="http://schemas.openxmlformats.org/drawingml/2006/table">
            <a:tbl>
              <a:tblPr/>
              <a:tblGrid>
                <a:gridCol w="2396880"/>
                <a:gridCol w="1489320"/>
              </a:tblGrid>
              <a:tr h="884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lož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ostatní 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87 6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oukromé zdroje (PP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5 2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droje E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8 8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ra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5 4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a stá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78 0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zdro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87 6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724280" y="1219320"/>
            <a:ext cx="419112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Téměř 25% zdrojů pochází </a:t>
            </a:r>
            <a:br>
              <a:rPr sz="1600"/>
            </a:b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ze soukromých zdrojů a zdrojů EU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3886200" y="2209680"/>
          <a:ext cx="6019920" cy="401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2209680"/>
                    <a:ext cx="6019920" cy="401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Makroekonomická vyčíslení (pro OH 2020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11160" y="1244520"/>
            <a:ext cx="9132840" cy="120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Hlavním důvodem, proč pořádání olympiády je pro hostitele výnosné, jsou vnější finanční prostředky, které by jinak jeho ekonomika nezískala. Zdrojem těchto prostředků jsou příjmy od médií, sponzorů, členů “Olympijské rodiny” </a:t>
            </a: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a turistů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680" y="25905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Výsledky generované modelem celé ekonomiky zohledňují nutnost splatit deficit her 66,5 mld. Kč nutný k pokrytí výše uvedeného rozdílu mezi soukromými zdroji </a:t>
            </a:r>
            <a:br>
              <a:rPr sz="1600"/>
            </a:b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a náklady he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I po splacení tohoto rozdílu hry stále generují přírůstek HDP ve výši 25 mld. Kč </a:t>
            </a:r>
            <a:br>
              <a:rPr sz="1600"/>
            </a:b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(cca 1% HDP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Považujeme-li těchto 66,5 mld. Kč za investici do her, lze </a:t>
            </a:r>
            <a:br>
              <a:rPr sz="1600"/>
            </a:b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z makroekonomického hlediska vyjádřit poměr mezi náklady a výnosy projektu her asi jako 66,5 mld.  Kč : 91 mld. Kč (= 66,5+25 mld. Kč), tj. zhruba 3 : 4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Mezi další makroekonomické přínosy her patří například zvýšení daňových příjmů v objemu zhruba 16 mld. Kč, obratů v ekonomice o 50 mld. Kč, či 44 tis. vytvořených pracovních míst. Inflace nad rámec obecné inflace v ekonomice není modelem indikována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Některé aspekty organizace a časování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Strategie získávání zdroj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41360" indent="-17676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Krátkodobá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Získávání politické podpory, potřeba záruk ze strany stá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Sponzoři pro přípravu nabídk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Maximalizace zdrojů z EU (infrastrukturní projekt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Aktivní přístup k projektům PPP, identifikace developerů, studie proveditelnosti a identifikace zdrojů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41360" indent="-17676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Střednědobá strategi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Reálné využití PPP zdrojů, financování výkupů pozemků (spojení s developer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Identifikace lokálních nebo regionálních pro naplnění rozpočtu org. výbor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Restrukturalizace rozpočtu HMP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Zabezpečení veřejných zdrojů tam,kde nebude možné zajistit jiné zdroj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41360" indent="-17676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Dlouhodobá strategi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Koordinace naplňování zdrojů org. výboru ze zdrojů MOV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PPP projekty, developerské zhodnocení pozemků uvolněných v důsledku O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Garantované financování ze strany stá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hrnutí přínosů pro Prahu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914400" y="1371600"/>
          <a:ext cx="8077320" cy="4871880"/>
        </p:xfrm>
        <a:graphic>
          <a:graphicData uri="http://schemas.openxmlformats.org/drawingml/2006/table">
            <a:tbl>
              <a:tblPr/>
              <a:tblGrid>
                <a:gridCol w="1062000"/>
                <a:gridCol w="3800520"/>
                <a:gridCol w="321480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9196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nos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šechny přínosy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ilákání tak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ka 4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droj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jako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jmy Organiza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ního výboru O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ařazení mezi zem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schopné po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ádat OH se všemi d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ledky pro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ta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livost investic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rozvoj ekonomik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ý pozitivní makroekonomický dopad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e výši 25 mld. K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po úhrad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všech závaz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(úro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 splátek dluhov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financovaného deficitu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jm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výdaj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her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 pro generaci dětí po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ta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ů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výšení celkového obratu ekonomických subjektů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o 50 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ý daňový dopad ve výši 8 miliard Kč dan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 obratu z multiplika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ních efekt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her a  zhruba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  mld.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na daních z 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jm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 výše uvedeného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ír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tku HDP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áklad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odíl na deficitu financování ve výši cca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7 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(bez Prahy, kraj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a sport. svaz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hrnutí přínosů pro Č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80880" y="1295280"/>
          <a:ext cx="8534160" cy="5148360"/>
        </p:xfrm>
        <a:graphic>
          <a:graphicData uri="http://schemas.openxmlformats.org/drawingml/2006/table">
            <a:tbl>
              <a:tblPr/>
              <a:tblGrid>
                <a:gridCol w="1109160"/>
                <a:gridCol w="4058280"/>
                <a:gridCol w="3366720"/>
              </a:tblGrid>
              <a:tr h="41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07240">
                <a:tc rowSpan="8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nos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ybudovaná infrastruktura nad rámec běžného rozvoje v hodnot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3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frastruktura v rámci běžného rozvoje získává prioritu, nová infrastruktur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ybudovaná sportoviště v hodnot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2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louhodobý plán a vize rozvoj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ybudované výstaviště v hodnotě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oviště brzdící odchod rodin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do satelitních m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te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nosy z turistiky v hodnot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cca 8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ýstaviště jako nová dominanta Prahy 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potvrzení její atraktivit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R (platí i pro ČR a regiony) v hodnot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hruba 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-3 násobku vynalo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ných prost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dk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Rozvoj Strahova a Letňa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ové centrum pro sport a odpočinek v Maninác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ahrnutí do skupiny nejúspěšnějších sv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tových metropolí lákajících investice 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globální firm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Jasná vůd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 pozice mezi m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ty v st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doevropském regionu v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tn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Rakousk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áklad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odíl na deficitu financování ve výši cca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0 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6094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Ekonomická a marketingová studi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 pořádání LOH v Praze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– obsah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: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7543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komplexní vyhodnocení celého záměru v porovnání se svě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vyhodnocení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územní analýzy ÚR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analýza vstupních podmínek Prahy a Č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analýza nákladů LOH a jejich vztah k  plánovanému rozvoji města a Č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analýza zdrojů a jejich rozložení v privátní a veřejné sféř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krátkodobé i dlouhodobé přínosy a efekty LO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organizace kandidatury a přípravy LOH a její marke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analýza objektivních i subjektivních rizi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oporučení základních postupů v přípravě kandidatury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Analýza rizik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0720" indent="-1807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Analýza rizik v rámci 5 etap olympijského cykl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807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Klíčová rizika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Rozhodnutí na základě špatně vyhodnocených klíčových projektů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Špatná příprava a koordinace subjektů pro přípravu přihlášk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Negativní veřejné mínění v průběhu celého cykl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Zpoždění v připravenosti infrastruktury pro potřeby kandidatu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Výrazné změny olympijského projektu, otázky vlastnictví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Problémy s finančními zdroji ať soukromých nebo veřejný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Nenaplnění rozpočtových příjmů organizačního výbor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Problémy při výstavbě infrastruktury a nedostatek stavebních kapacit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Bezpečnostní rizika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Selhání technologie, logistiky a dopravy, organizační selhání, živelná pohrom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Vyšší než plánovaný nárůst zadlužení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WO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809640" y="533520"/>
            <a:ext cx="8334360" cy="58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Doporučení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0720" indent="-27144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Kdy má Praha kandidovat – otázka připravenosti a časování zahájení příprav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Ostatní klíčová doporučení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Podpora klíčových subjektů (politické strany, vláda, zastupitelstva, kraje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Tlak na uskutečnění reformy veřejných financí bez níž nebude možné dokončit ani základní infrastrukturní projek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Uskutečnění klíčových projektů proveditelnosti (ceremoniální stadion, olympijská vesnice, mediální vesnice, výstaviště, Strahov, Kbely, plavecké centru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Příprava a zahájení cílené PR strategi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Aktivní politika zviditelňování města a dalších olympijských areálů v rámci významných sportovních akcí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Důkladný sběr dat a informací, příprava projektů, zaměření se na identifikované slabé stránky projek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Řešit vlastnické otázky (Bubn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Demonstrovat reálnost souladu dlouhodobých potřeb města s potřebami OH v podobě zahájení výstavby a provozování vybraných projektů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7543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Rozměr a význam letních OH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etní OH jsou jednoznačně nejvýznamnější sportovní událostí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jejíž rozměr nemá mezi dalšími sportovními událostmi obdobu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51560" y="1752480"/>
            <a:ext cx="8741160" cy="4575240"/>
            <a:chOff x="151560" y="1752480"/>
            <a:chExt cx="8741160" cy="4575240"/>
          </a:xfrm>
        </p:grpSpPr>
        <p:sp>
          <p:nvSpPr>
            <p:cNvPr id="54" name=""/>
            <p:cNvSpPr/>
            <p:nvPr/>
          </p:nvSpPr>
          <p:spPr>
            <a:xfrm>
              <a:off x="2418480" y="1904760"/>
              <a:ext cx="1788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indikace počtu hal/stadionů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484600" y="4456080"/>
              <a:ext cx="1438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i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di</a:t>
              </a: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kuje počet diváků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949200" y="6081480"/>
              <a:ext cx="2732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i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di</a:t>
              </a: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kuje potřebu podpory odvětví ekonomiky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500280" y="3739680"/>
              <a:ext cx="336240" cy="163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500280" y="3287520"/>
              <a:ext cx="672840" cy="33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500280" y="2837160"/>
              <a:ext cx="1009080" cy="497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500280" y="2376720"/>
              <a:ext cx="1353600" cy="6696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836880" y="3903840"/>
              <a:ext cx="90000" cy="3880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73480" y="3622320"/>
              <a:ext cx="172080" cy="7714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509720" y="3334680"/>
              <a:ext cx="262440" cy="115992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54240" y="3046320"/>
              <a:ext cx="344520" cy="1550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3687120" y="4291920"/>
              <a:ext cx="239760" cy="30456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3881520" y="4394160"/>
              <a:ext cx="463320" cy="6058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4068360" y="4494600"/>
              <a:ext cx="703080" cy="91008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4263120" y="4596840"/>
              <a:ext cx="934920" cy="122184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13440" y="4596840"/>
              <a:ext cx="373320" cy="144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3118680" y="5000040"/>
              <a:ext cx="7632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2930040" y="5405040"/>
              <a:ext cx="1137960" cy="1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737080" y="5819040"/>
              <a:ext cx="1526040" cy="144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3073680" y="4291920"/>
              <a:ext cx="239760" cy="30456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flipV="1">
              <a:off x="2654640" y="4393800"/>
              <a:ext cx="463320" cy="6058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 flipV="1">
              <a:off x="2228760" y="4494600"/>
              <a:ext cx="701280" cy="91008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 flipV="1">
              <a:off x="1801800" y="4596840"/>
              <a:ext cx="934920" cy="122184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3073680" y="3903840"/>
              <a:ext cx="90000" cy="3880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2655000" y="3621960"/>
              <a:ext cx="170640" cy="7714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2228760" y="3334680"/>
              <a:ext cx="260280" cy="115992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1802160" y="3046320"/>
              <a:ext cx="342720" cy="1550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3164040" y="3739320"/>
              <a:ext cx="335880" cy="163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2826000" y="3287520"/>
              <a:ext cx="673920" cy="33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2489400" y="2836800"/>
              <a:ext cx="1010520" cy="497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2144880" y="2376720"/>
              <a:ext cx="1355040" cy="6696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4880" y="3046320"/>
              <a:ext cx="2709000" cy="2264760"/>
            </a:xfrm>
            <a:custGeom>
              <a:avLst/>
              <a:gdLst/>
              <a:ahLst/>
              <a:rect l="l" t="t" r="r" b="b"/>
              <a:pathLst>
                <a:path w="1683" h="1353">
                  <a:moveTo>
                    <a:pt x="842" y="358"/>
                  </a:moveTo>
                  <a:lnTo>
                    <a:pt x="1683" y="0"/>
                  </a:lnTo>
                  <a:lnTo>
                    <a:pt x="1641" y="870"/>
                  </a:lnTo>
                  <a:lnTo>
                    <a:pt x="1167" y="1353"/>
                  </a:lnTo>
                  <a:lnTo>
                    <a:pt x="595" y="1195"/>
                  </a:lnTo>
                  <a:lnTo>
                    <a:pt x="0" y="879"/>
                  </a:lnTo>
                  <a:lnTo>
                    <a:pt x="284" y="233"/>
                  </a:lnTo>
                  <a:lnTo>
                    <a:pt x="842" y="358"/>
                  </a:lnTo>
                  <a:close/>
                </a:path>
              </a:pathLst>
            </a:custGeom>
            <a:solidFill>
              <a:srgbClr val="00cc99"/>
            </a:solidFill>
            <a:ln w="2232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975760" y="3942000"/>
              <a:ext cx="824040" cy="810360"/>
            </a:xfrm>
            <a:custGeom>
              <a:avLst/>
              <a:gdLst/>
              <a:ahLst/>
              <a:rect l="l" t="t" r="r" b="b"/>
              <a:pathLst>
                <a:path w="512" h="484">
                  <a:moveTo>
                    <a:pt x="326" y="74"/>
                  </a:moveTo>
                  <a:lnTo>
                    <a:pt x="512" y="0"/>
                  </a:lnTo>
                  <a:lnTo>
                    <a:pt x="474" y="181"/>
                  </a:lnTo>
                  <a:lnTo>
                    <a:pt x="488" y="484"/>
                  </a:lnTo>
                  <a:lnTo>
                    <a:pt x="284" y="237"/>
                  </a:lnTo>
                  <a:lnTo>
                    <a:pt x="0" y="223"/>
                  </a:lnTo>
                  <a:lnTo>
                    <a:pt x="205" y="51"/>
                  </a:lnTo>
                  <a:lnTo>
                    <a:pt x="326" y="74"/>
                  </a:lnTo>
                  <a:close/>
                </a:path>
              </a:pathLst>
            </a:custGeom>
            <a:solidFill>
              <a:srgbClr val="ccccff"/>
            </a:solidFill>
            <a:ln w="223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13800" y="4113000"/>
              <a:ext cx="672480" cy="483840"/>
            </a:xfrm>
            <a:custGeom>
              <a:avLst/>
              <a:gdLst/>
              <a:ahLst/>
              <a:rect l="l" t="t" r="r" b="b"/>
              <a:pathLst>
                <a:path w="418" h="289">
                  <a:moveTo>
                    <a:pt x="116" y="47"/>
                  </a:moveTo>
                  <a:lnTo>
                    <a:pt x="171" y="0"/>
                  </a:lnTo>
                  <a:lnTo>
                    <a:pt x="418" y="117"/>
                  </a:lnTo>
                  <a:lnTo>
                    <a:pt x="185" y="191"/>
                  </a:lnTo>
                  <a:lnTo>
                    <a:pt x="0" y="289"/>
                  </a:lnTo>
                  <a:lnTo>
                    <a:pt x="111" y="47"/>
                  </a:lnTo>
                  <a:lnTo>
                    <a:pt x="116" y="47"/>
                  </a:lnTo>
                  <a:lnTo>
                    <a:pt x="116" y="47"/>
                  </a:lnTo>
                  <a:close/>
                </a:path>
              </a:pathLst>
            </a:custGeom>
            <a:solidFill>
              <a:srgbClr val="000000"/>
            </a:solidFill>
            <a:ln w="792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500280" y="2376720"/>
              <a:ext cx="1800" cy="18144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500280" y="3046320"/>
              <a:ext cx="1353600" cy="114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00280" y="4191480"/>
              <a:ext cx="1698480" cy="4053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00280" y="4191480"/>
              <a:ext cx="763200" cy="16272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2737080" y="4191480"/>
              <a:ext cx="762840" cy="16272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1801800" y="4191480"/>
              <a:ext cx="1698120" cy="4053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>
              <a:off x="2144880" y="3046320"/>
              <a:ext cx="1355040" cy="114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504600" y="40226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ccffcc"/>
                  </a:solidFill>
                  <a:latin typeface="Arial"/>
                  <a:ea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35560" y="357048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535560" y="311868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535560" y="266832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5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511440" y="2207880"/>
              <a:ext cx="365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851560" y="1752480"/>
              <a:ext cx="928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čet soutěží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260320" y="2435760"/>
              <a:ext cx="1098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čet sportovců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311440" y="4258440"/>
              <a:ext cx="1132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čet vstupene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392000" y="5929200"/>
              <a:ext cx="178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říjmy od s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n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z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ů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53680" y="5577840"/>
              <a:ext cx="184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říjmy ze vstupenek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1560" y="4258440"/>
              <a:ext cx="1593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říjmy z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V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práv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40360" y="2890800"/>
              <a:ext cx="1491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říjmy z licencí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07840" y="3307680"/>
              <a:ext cx="88200" cy="93600"/>
            </a:xfrm>
            <a:prstGeom prst="rect">
              <a:avLst/>
            </a:prstGeom>
            <a:solidFill>
              <a:srgbClr val="00cc99"/>
            </a:solidFill>
            <a:ln w="22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240680" y="3270960"/>
              <a:ext cx="1224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tní olympijské h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07840" y="3533400"/>
              <a:ext cx="88200" cy="93600"/>
            </a:xfrm>
            <a:prstGeom prst="rect">
              <a:avLst/>
            </a:prstGeom>
            <a:solidFill>
              <a:srgbClr val="cccc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40320" y="3495240"/>
              <a:ext cx="1259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Zimní o</a:t>
              </a: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lympi</a:t>
              </a: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jské h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07840" y="3768120"/>
              <a:ext cx="88200" cy="93600"/>
            </a:xfrm>
            <a:prstGeom prst="rect">
              <a:avLst/>
            </a:prstGeom>
            <a:solidFill>
              <a:srgbClr val="000000"/>
            </a:solidFill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239960" y="3720960"/>
              <a:ext cx="165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strovství světa ve fotba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752360" y="2642760"/>
              <a:ext cx="2093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indikuje požadavky na ubytování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74600" y="4258440"/>
              <a:ext cx="57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935080" y="3548880"/>
              <a:ext cx="41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638440" y="3245760"/>
              <a:ext cx="41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5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l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68720" y="3017880"/>
              <a:ext cx="491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86160" y="4106160"/>
              <a:ext cx="50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354888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0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05120" y="324576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97800" y="2890800"/>
              <a:ext cx="429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,0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970880" y="4638600"/>
              <a:ext cx="41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67240" y="4485960"/>
              <a:ext cx="453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,5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021920" y="4383720"/>
              <a:ext cx="38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317600" y="4536360"/>
              <a:ext cx="42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mld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86520" y="5321520"/>
              <a:ext cx="57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632680" y="4866120"/>
              <a:ext cx="50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196000" y="5776920"/>
              <a:ext cx="42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mld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55440" y="5396760"/>
              <a:ext cx="57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362760" y="4941720"/>
              <a:ext cx="50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800520" y="5853960"/>
              <a:ext cx="42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mld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Rozsah projektu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240" y="1066680"/>
            <a:ext cx="7543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Tahoma"/>
              </a:rPr>
              <a:t>Analýza výchozí situace Prah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Zhodnocení vybavenosti města, sportovní, dopravní a technické infrastruktury současné a plánované pro potřeby měs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Definice klíčových oblastí a požadavků MOV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Transformace výsledků inventury do definice celkového konceptu pořádání her, který má při splnění základních požadavků MOV smysl z hlediska možností města Prahy a ČR a přitom má šanci na úspěch v soutěži s konkurenčními měst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Tahoma"/>
              </a:rPr>
              <a:t>Ekonomika pořádání O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Příprava nákladových rozpočtů ve třech klíčových oblastech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Náklady kandidatury na pořádání O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Náklady na zajištění přípravy a průběhu O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Náklady infrastruktury, které nejsou vyvolány O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Základní zdroje financování jednotlivých oblastí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Dostupnost zdrojů MOV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Dostupnost ostatních soukromých zdrojů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Dostupnost zdrojů E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Zdroje města a stát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Strategie při získávání zdrojů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Rozsah projektu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Makroekonomické přínos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ahoma"/>
              </a:rPr>
              <a:t>Dopady OH do tvorby HDP, daňové příjm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ahoma"/>
              </a:rPr>
              <a:t>Dopady do zaměstnanosti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ahoma"/>
              </a:rPr>
              <a:t>Ostatní sociální, nepřímé a nehmotné přínos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ahoma"/>
              </a:rPr>
              <a:t>Kandidatura a organizační zajištění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Kdy zahájit přípravu na pořádání OH a pro který olympijský ro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Organizační zajištění přípravy a pořádání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Vlastnické vztah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Právní aspekty pořádání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ahoma"/>
              </a:rPr>
              <a:t>Marketing kandidatury O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Způsob prezentace myšlenky OH v jednotlivých fázích přípravy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Partneři města Prahy pro potřeby pořádání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ahoma"/>
              </a:rPr>
              <a:t>Rizik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Zaměření především na infrastrukturní, politická, finanční, bezpečnostní rizik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Následky, pravděpodobnost, způsob eliminace a náklady odstranění nebo snížení rizi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Ekonomika pořádání OH – Základní metodika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458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Použita metodika MOV ve stálých současných cená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Metodika nákladů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Náklady vyvolané přípravou a pořádáním OH (CÚ 2004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Náklady kandidatury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Provozní náklad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Investiční náklad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Ostatní náklady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Ostatní náklady, které s OH nesouvisí a nejsou OH vyvolán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808080"/>
                </a:solidFill>
                <a:latin typeface="Tahoma"/>
              </a:rPr>
              <a:t>Základ propočtů tvoří modifikovaná varianta Severní tera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upravena se záměrem maximálně uspět v konkurenci nabídek velkých světových metropolí, modifikace spočívá zejména v umístění olympijské vesnice do transformačního území v Bubnech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4952880"/>
            <a:ext cx="8534520" cy="1371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700" spc="-1" strike="noStrike">
                <a:solidFill>
                  <a:srgbClr val="ffffff"/>
                </a:solidFill>
                <a:latin typeface="Tahoma"/>
              </a:rPr>
              <a:t>Ostatní náklady, které s OH nesouvisí, jsou vyvolány zejména infrastruk-turními projekty. Ačkoli jde o projekty, které nejsou vyvolány OH, bez jejich realizace Praha nebude schopna předložit kvalitní nabídku. Jsou-li však v souladu s potřebami města, do nákladů OH je nelze zahrnout, je však nutné prověřit jejich realizo-vatelnost z hlediska dostupných finančních zdrojů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Modifikovaná „Severní terasa“ - výchozí model pro finanční kalkulac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990720" y="1447920"/>
            <a:ext cx="7789680" cy="4875120"/>
            <a:chOff x="990720" y="1447920"/>
            <a:chExt cx="7789680" cy="4875120"/>
          </a:xfrm>
        </p:grpSpPr>
        <p:pic>
          <p:nvPicPr>
            <p:cNvPr id="149" name="" descr=""/>
            <p:cNvPicPr/>
            <p:nvPr/>
          </p:nvPicPr>
          <p:blipFill>
            <a:blip r:embed="rId1"/>
            <a:stretch/>
          </p:blipFill>
          <p:spPr>
            <a:xfrm>
              <a:off x="990720" y="1447920"/>
              <a:ext cx="7789680" cy="48751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50" name=""/>
            <p:cNvSpPr/>
            <p:nvPr/>
          </p:nvSpPr>
          <p:spPr>
            <a:xfrm>
              <a:off x="4820760" y="3316680"/>
              <a:ext cx="171432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600" spc="-1" strike="noStrike">
                  <a:solidFill>
                    <a:srgbClr val="333333"/>
                  </a:solidFill>
                  <a:latin typeface="Times New Roman"/>
                </a:rPr>
                <a:t>(případně v Letňanech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198360" y="1447920"/>
            <a:ext cx="3078360" cy="47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Metodika nákladů LOH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V dnešních cenách (příp. diskontované z modelu PricewaterhouseCoope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Zahrnují náklady výstavby </a:t>
            </a:r>
            <a:br>
              <a:rPr sz="1600"/>
            </a:b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a přípravy projekt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Vše ve vyšší než průměrné kvalitě i standar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U clusterů a sportovišť ověřena plocha i dopravní obslužn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Nepředpokládají komplikace nad rámec standardních stavebních prací ani zrychlené dokončování investic v rámci stanoveného plán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124080" y="1371600"/>
            <a:ext cx="579132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143000" y="1371600"/>
          <a:ext cx="7772400" cy="4606920"/>
        </p:xfrm>
        <a:graphic>
          <a:graphicData uri="http://schemas.openxmlformats.org/drawingml/2006/table">
            <a:tbl>
              <a:tblPr/>
              <a:tblGrid>
                <a:gridCol w="4150080"/>
                <a:gridCol w="1689840"/>
                <a:gridCol w="1932480"/>
              </a:tblGrid>
              <a:tr h="974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707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áklady kandidatury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mé provozní náklady přípravy a pořádání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4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4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mé investiční náklady přípravy a pořádání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8 1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8 1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Ostatní náklady OH (urychlení investic, DPH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 7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4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náklady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5 8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 5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5T10:33:08Z</dcterms:created>
  <dc:creator>Ing. P. Jonák</dc:creator>
  <dc:description/>
  <dc:language>en-US</dc:language>
  <cp:lastModifiedBy>Ing. Zdeněk Nerad</cp:lastModifiedBy>
  <dcterms:modified xsi:type="dcterms:W3CDTF">2007-03-06T07:04:01Z</dcterms:modified>
  <cp:revision>397</cp:revision>
  <dc:subject/>
  <dc:title>Informace o postupu přípravy  podkladů pro potenciální kandidaturu Prahy na pořadatelství LOH 2016, resp. 2020</dc:title>
</cp:coreProperties>
</file>